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9CE-2F61-4345-8164-A59E8818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124-E2F2-4478-9F3A-9493A2F0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964-C395-43F5-9834-B819177C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3B8-9FF5-46EA-9496-A2A8CE7B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FABE-7EF1-44BB-8127-886DBB0E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CBB4-3CAE-4552-B363-313A1863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857F-1458-4D89-BED5-CC39A204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6BB9-59EC-4E5A-B879-8FEBDD89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DE42-568F-4584-BB30-B59D83FD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5EBE-B39C-499B-AAA2-5D118FDC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2F49-4503-469A-9901-3E5907B9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162-F679-4813-B4D9-2746D292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8C2E-67C0-45A2-A2A2-24F5C95E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0889-1B79-48C6-BF7F-AE973F64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1615-2B01-4DF8-8EE2-3DA16205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EF5D-83E7-4B23-87FD-EAF509E6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D099-3673-4741-876E-4EDC777B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E0D-7D42-462D-AE31-41250539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274-44A9-41F2-A466-5FEDDAD7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BFC-1998-4CD3-93C9-60FDE75C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E46-7A33-4773-A842-2F94736D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9E2-08EA-4EC3-8D19-A45EF72E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FEC-D802-4016-A1A0-40EE0B97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F76-4640-4970-A9D1-67C67339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ABD7-5D17-45F1-9630-96D67C6071F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9DBC-C6FA-4C6C-8F46-070837B7D0E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7724880" cy="441936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996633"/>
                </a:solidFill>
                <a:latin typeface="DJ Blocks"/>
              </a:rPr>
              <a:t>LITERACY</a:t>
            </a:r>
            <a:br>
              <a:rPr sz="8400"/>
            </a:br>
            <a:r>
              <a:rPr b="1" lang="en-US" sz="8400" spc="-1" strike="noStrike">
                <a:solidFill>
                  <a:srgbClr val="996633"/>
                </a:solidFill>
                <a:latin typeface="DJ Blocks"/>
              </a:rPr>
              <a:t>and</a:t>
            </a:r>
            <a:br>
              <a:rPr sz="8400"/>
            </a:br>
            <a:r>
              <a:rPr b="1" lang="en-US" sz="8400" spc="-1" strike="noStrike">
                <a:solidFill>
                  <a:srgbClr val="996633"/>
                </a:solidFill>
                <a:latin typeface="DJ Blocks"/>
              </a:rPr>
              <a:t>READING</a:t>
            </a:r>
            <a:endParaRPr b="0" lang="en-US" sz="8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3880" y="5486040"/>
            <a:ext cx="6400800" cy="6094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hild Development II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9907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 Black"/>
              </a:rPr>
              <a:t>READING FACTS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4956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Learning to read requires a combination of many </a:t>
            </a:r>
            <a:r>
              <a:rPr b="0" lang="en-US" sz="2300" spc="-1" strike="noStrike" u="sng">
                <a:solidFill>
                  <a:srgbClr val="402000"/>
                </a:solidFill>
                <a:uFillTx/>
                <a:latin typeface="Arial Black"/>
              </a:rPr>
              <a:t>SKILLS</a:t>
            </a: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A child’s success in learning to read is affected more by reading related experiences that a child has </a:t>
            </a:r>
            <a:r>
              <a:rPr b="0" lang="en-US" sz="2300" spc="-1" strike="noStrike" u="sng">
                <a:solidFill>
                  <a:srgbClr val="402000"/>
                </a:solidFill>
                <a:uFillTx/>
                <a:latin typeface="Arial Black"/>
              </a:rPr>
              <a:t>BEFORE</a:t>
            </a: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 entering school than the reading related experiences a child has </a:t>
            </a:r>
            <a:r>
              <a:rPr b="0" lang="en-US" sz="2300" spc="-1" strike="noStrike" u="sng">
                <a:solidFill>
                  <a:srgbClr val="402000"/>
                </a:solidFill>
                <a:uFillTx/>
                <a:latin typeface="Arial Black"/>
              </a:rPr>
              <a:t>AFTER</a:t>
            </a: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 he/she enters school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Children who are </a:t>
            </a:r>
            <a:r>
              <a:rPr b="0" lang="en-US" sz="2300" spc="-1" strike="noStrike" u="sng">
                <a:solidFill>
                  <a:srgbClr val="402000"/>
                </a:solidFill>
                <a:uFillTx/>
                <a:latin typeface="Arial Black"/>
              </a:rPr>
              <a:t>READ</a:t>
            </a: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 </a:t>
            </a:r>
            <a:r>
              <a:rPr b="0" lang="en-US" sz="2300" spc="-1" strike="noStrike" u="sng">
                <a:solidFill>
                  <a:srgbClr val="402000"/>
                </a:solidFill>
                <a:uFillTx/>
                <a:latin typeface="Arial Black"/>
              </a:rPr>
              <a:t>to</a:t>
            </a: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 </a:t>
            </a:r>
            <a:r>
              <a:rPr b="0" lang="en-US" sz="2300" spc="-1" strike="noStrike" u="sng">
                <a:solidFill>
                  <a:srgbClr val="402000"/>
                </a:solidFill>
                <a:uFillTx/>
                <a:latin typeface="Arial Black"/>
              </a:rPr>
              <a:t>REGULARLY</a:t>
            </a: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 are better readers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 Black"/>
              </a:rPr>
              <a:t>Literacy is the ability to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 Black"/>
              </a:rPr>
              <a:t>READ</a:t>
            </a:r>
            <a:r>
              <a:rPr b="0" lang="en-US" sz="2400" spc="-1" strike="noStrike">
                <a:solidFill>
                  <a:srgbClr val="996633"/>
                </a:solidFill>
                <a:latin typeface="Arial Black"/>
              </a:rPr>
              <a:t> and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 Black"/>
              </a:rPr>
              <a:t>WRITE</a:t>
            </a:r>
            <a:r>
              <a:rPr b="0" lang="en-US" sz="2400" spc="-1" strike="noStrike">
                <a:solidFill>
                  <a:srgbClr val="996633"/>
                </a:solidFill>
                <a:latin typeface="Arial Black"/>
              </a:rPr>
              <a:t>.</a:t>
            </a:r>
            <a:br>
              <a:rPr sz="2400"/>
            </a:br>
            <a:r>
              <a:rPr b="0" lang="en-US" sz="2000" spc="-1" strike="noStrike">
                <a:solidFill>
                  <a:srgbClr val="996633"/>
                </a:solidFill>
                <a:latin typeface="Arial Black"/>
              </a:rPr>
              <a:t>Reading and writing are forms of </a:t>
            </a:r>
            <a:r>
              <a:rPr b="0" lang="en-US" sz="2000" spc="-1" strike="noStrike" u="sng">
                <a:solidFill>
                  <a:srgbClr val="996633"/>
                </a:solidFill>
                <a:uFillTx/>
                <a:latin typeface="Arial Black"/>
              </a:rPr>
              <a:t>COMMUNICATION</a:t>
            </a:r>
            <a:r>
              <a:rPr b="0" lang="en-US" sz="2000" spc="-1" strike="noStrike">
                <a:solidFill>
                  <a:srgbClr val="996633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572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 Black"/>
              </a:rPr>
              <a:t>Words are a form of COMMUNICATION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 Black"/>
              </a:rPr>
              <a:t>Name 5 different sources you could use to see words everyday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 Black"/>
              </a:rPr>
              <a:t>Sign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 Black"/>
              </a:rPr>
              <a:t>Comic Strip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 Black"/>
              </a:rPr>
              <a:t>Directions of food / labels / recip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 Black"/>
              </a:rPr>
              <a:t>Newspaper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 Black"/>
              </a:rPr>
              <a:t>Directions for Toy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 Black"/>
              </a:rPr>
              <a:t>Book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Arial Black"/>
              </a:rPr>
              <a:t>If a child can </a:t>
            </a:r>
            <a:r>
              <a:rPr b="0" lang="en-US" sz="4000" spc="-1" strike="noStrike" u="sng">
                <a:solidFill>
                  <a:srgbClr val="402000"/>
                </a:solidFill>
                <a:uFillTx/>
                <a:latin typeface="Arial Black"/>
              </a:rPr>
              <a:t>SEE</a:t>
            </a:r>
            <a:r>
              <a:rPr b="0" lang="en-US" sz="4000" spc="-1" strike="noStrike">
                <a:solidFill>
                  <a:srgbClr val="402000"/>
                </a:solidFill>
                <a:latin typeface="Arial Black"/>
              </a:rPr>
              <a:t> other people read -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Arial Black"/>
              </a:rPr>
              <a:t>they will learn that </a:t>
            </a:r>
            <a:r>
              <a:rPr b="0" lang="en-US" sz="5400" spc="-1" strike="noStrike" u="sng">
                <a:solidFill>
                  <a:srgbClr val="402000"/>
                </a:solidFill>
                <a:uFillTx/>
                <a:latin typeface="Arial Black"/>
              </a:rPr>
              <a:t>READING</a:t>
            </a:r>
            <a:r>
              <a:rPr b="0" lang="en-US" sz="5400" spc="-1" strike="noStrike">
                <a:solidFill>
                  <a:srgbClr val="402000"/>
                </a:solidFill>
                <a:latin typeface="Arial Black"/>
              </a:rPr>
              <a:t> is </a:t>
            </a:r>
            <a:r>
              <a:rPr b="0" lang="en-US" sz="6600" spc="-1" strike="noStrike" u="sng">
                <a:solidFill>
                  <a:srgbClr val="402000"/>
                </a:solidFill>
                <a:uFillTx/>
                <a:latin typeface="DJ Big Stick"/>
              </a:rPr>
              <a:t>IMPORTANT!</a:t>
            </a:r>
            <a:endParaRPr b="0" lang="en-US" sz="6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Arial Black"/>
              </a:rPr>
              <a:t>WHAT DO BOOKS TEACH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0779800">
            <a:off x="1295280" y="2285640"/>
            <a:ext cx="3048120" cy="53352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Alphabe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988800">
            <a:off x="5559120" y="2233080"/>
            <a:ext cx="2219400" cy="83376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3048120"/>
            <a:ext cx="2895840" cy="76176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Rhy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 rot="20293800">
            <a:off x="1370880" y="4724280"/>
            <a:ext cx="3298680" cy="72864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Arial Black"/>
              </a:rPr>
              <a:t>Grammar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700400">
            <a:off x="5943600" y="4724280"/>
            <a:ext cx="2514600" cy="60984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Concep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54864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 Black"/>
              </a:rPr>
              <a:t>Relationship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400" cy="3408480"/>
          </a:xfrm>
          <a:prstGeom prst="rect">
            <a:avLst/>
          </a:prstGeom>
          <a:solidFill>
            <a:srgbClr val="fbfae2"/>
          </a:solidFill>
          <a:ln w="9360">
            <a:solidFill>
              <a:srgbClr val="9966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996633"/>
                </a:solidFill>
                <a:latin typeface="DJ Blocks"/>
              </a:rPr>
              <a:t>Story Telling</a:t>
            </a:r>
            <a:endParaRPr b="0" lang="en-US" sz="11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 Black"/>
              </a:rPr>
              <a:t>CHARACTERISTICS of a Good STORY TELLER:</a:t>
            </a:r>
            <a:r>
              <a:rPr b="0" lang="en-US" sz="4400" spc="-1" strike="noStrike">
                <a:solidFill>
                  <a:srgbClr val="996633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160" y="1828800"/>
            <a:ext cx="6933960" cy="44956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 Black"/>
              </a:rPr>
              <a:t>Voice </a:t>
            </a:r>
            <a:r>
              <a:rPr b="0" lang="en-US" sz="2000" spc="-1" strike="noStrike">
                <a:solidFill>
                  <a:srgbClr val="402000"/>
                </a:solidFill>
                <a:latin typeface="Arial Black"/>
              </a:rPr>
              <a:t>- Change tone &amp; pitc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 Black"/>
              </a:rPr>
              <a:t>Facial Express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 Black"/>
              </a:rPr>
              <a:t>Eye Contac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 Black"/>
              </a:rPr>
              <a:t>Speed - </a:t>
            </a:r>
            <a:r>
              <a:rPr b="0" lang="en-US" sz="2000" spc="-1" strike="noStrike">
                <a:solidFill>
                  <a:srgbClr val="402000"/>
                </a:solidFill>
                <a:latin typeface="Arial Black"/>
              </a:rPr>
              <a:t>Slow Dow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 Black"/>
              </a:rPr>
              <a:t>Volume - </a:t>
            </a:r>
            <a:r>
              <a:rPr b="0" lang="en-US" sz="2000" spc="-1" strike="noStrike">
                <a:solidFill>
                  <a:srgbClr val="402000"/>
                </a:solidFill>
                <a:latin typeface="Arial Black"/>
              </a:rPr>
              <a:t>Loud enough for whole group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 Black"/>
              </a:rPr>
              <a:t>Speak Clearl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rus Blk BT Black"/>
              </a:rPr>
              <a:t>READ STORY BEFORE TELLING!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solidFill>
            <a:srgbClr val="fbfae2"/>
          </a:solidFill>
          <a:ln w="9360">
            <a:solidFill>
              <a:srgbClr val="99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Arial Black"/>
              </a:rPr>
              <a:t>Be FAMILIAR with story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Arial Black"/>
              </a:rPr>
              <a:t>Know VOCABULARY in story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Arial Black"/>
              </a:rPr>
              <a:t>Feel the FLOW of the story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33"/>
                </a:solidFill>
                <a:latin typeface="Arrus Blk BT Black"/>
              </a:rPr>
              <a:t>C.R.O.W.S.</a:t>
            </a:r>
            <a:endParaRPr b="0" lang="en-US" sz="6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C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. </a:t>
            </a:r>
            <a:r>
              <a:rPr b="0" i="1" lang="en-US" sz="3200" spc="-1" strike="noStrike">
                <a:solidFill>
                  <a:srgbClr val="402000"/>
                </a:solidFill>
                <a:latin typeface="Arial Black"/>
              </a:rPr>
              <a:t>Completion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-</a:t>
            </a:r>
            <a:r>
              <a:rPr b="0" lang="en-US" sz="1800" spc="-1" strike="noStrike">
                <a:solidFill>
                  <a:srgbClr val="402000"/>
                </a:solidFill>
                <a:latin typeface="Arial Black"/>
              </a:rPr>
              <a:t>Fill in the blanks/Rhyming Word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R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. </a:t>
            </a:r>
            <a:r>
              <a:rPr b="0" i="1" lang="en-US" sz="3200" spc="-1" strike="noStrike">
                <a:solidFill>
                  <a:srgbClr val="402000"/>
                </a:solidFill>
                <a:latin typeface="Arial Black"/>
              </a:rPr>
              <a:t>Retell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-</a:t>
            </a:r>
            <a:r>
              <a:rPr b="0" lang="en-US" sz="1800" spc="-1" strike="noStrike">
                <a:solidFill>
                  <a:srgbClr val="402000"/>
                </a:solidFill>
                <a:latin typeface="Arial Black"/>
              </a:rPr>
              <a:t>Child tells story in own word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O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. </a:t>
            </a:r>
            <a:r>
              <a:rPr b="0" i="1" lang="en-US" sz="3200" spc="-1" strike="noStrike">
                <a:solidFill>
                  <a:srgbClr val="402000"/>
                </a:solidFill>
                <a:latin typeface="Arial Black"/>
              </a:rPr>
              <a:t>Open-Ended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-</a:t>
            </a:r>
            <a:r>
              <a:rPr b="0" lang="en-US" sz="1800" spc="-1" strike="noStrike">
                <a:solidFill>
                  <a:srgbClr val="402000"/>
                </a:solidFill>
                <a:latin typeface="Arial Black"/>
              </a:rPr>
              <a:t>Child Responds “Tell me about…”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W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. </a:t>
            </a:r>
            <a:r>
              <a:rPr b="0" i="1" lang="en-US" sz="3200" spc="-1" strike="noStrike">
                <a:solidFill>
                  <a:srgbClr val="402000"/>
                </a:solidFill>
                <a:latin typeface="Arial Black"/>
              </a:rPr>
              <a:t>Wh-?’s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- </a:t>
            </a:r>
            <a:r>
              <a:rPr b="0" lang="en-US" sz="1800" spc="-1" strike="noStrike">
                <a:solidFill>
                  <a:srgbClr val="402000"/>
                </a:solidFill>
                <a:latin typeface="Arial Black"/>
              </a:rPr>
              <a:t>What-When-Where-Who &amp; Why question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. </a:t>
            </a:r>
            <a:r>
              <a:rPr b="0" i="1" lang="en-US" sz="3200" spc="-1" strike="noStrike">
                <a:solidFill>
                  <a:srgbClr val="402000"/>
                </a:solidFill>
                <a:latin typeface="Arial Black"/>
              </a:rPr>
              <a:t>Schema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-</a:t>
            </a:r>
            <a:r>
              <a:rPr b="0" lang="en-US" sz="1800" spc="-1" strike="noStrike">
                <a:solidFill>
                  <a:srgbClr val="402000"/>
                </a:solidFill>
                <a:latin typeface="Arial Black"/>
              </a:rPr>
              <a:t>Relate to the child’s lif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16:35Z</dcterms:created>
  <dc:creator>Robert Hicks</dc:creator>
  <dc:description/>
  <dc:language>en-US</dc:language>
  <cp:lastModifiedBy>wcsd</cp:lastModifiedBy>
  <dcterms:modified xsi:type="dcterms:W3CDTF">2010-03-10T19:43:32Z</dcterms:modified>
  <cp:revision>6</cp:revision>
  <dc:subject/>
  <dc:title>LITERACY and READING</dc:title>
</cp:coreProperties>
</file>